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204-0613-4A2C-BA7B-3CEFEE05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E02-1F38-4401-AE6F-F95590D3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9AD-0544-499F-A853-7A651A95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ACC-ABBF-44FC-8B3E-12AF8F50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BC0-75C2-4955-B72C-77DD6C7C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3C3-7DFD-4CD5-82FA-634BF728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00F-FFDC-4527-8FB5-D06CB556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BD4-A51E-4F41-9731-3E582AD6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984-2E59-45D3-82A2-B0BA8E43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BA9-73A9-466B-AE87-1B068883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BE7-80A7-472D-BF4A-7FA3C005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356-8673-4B6D-A0F0-83E3790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523A-D90F-442C-BC4F-1F7445B40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apg.org/" TargetMode="External"/><Relationship Id="rId2" Type="http://schemas.openxmlformats.org/officeDocument/2006/relationships/hyperlink" Target="http://www.aapg.org/" TargetMode="External"/><Relationship Id="rId3" Type="http://schemas.openxmlformats.org/officeDocument/2006/relationships/hyperlink" Target="http://www.rms-aapg.org/" TargetMode="External"/><Relationship Id="rId4" Type="http://schemas.openxmlformats.org/officeDocument/2006/relationships/hyperlink" Target="http://www.rms-aapg.org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9480" y="100080"/>
            <a:ext cx="88722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Association of Petroleum Geologists (AAPG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Profit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aapg.or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ce its founding in 1917, the American Association of Petroleum Geologists has been a pillar of the world-wide scientific community. The original purpo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AAPG, to foster scientific research, to advance the science of geology, to promote technology, and to inspire high professional conduct, still guide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ociation today. Currently the world's largest professional geological society with over 30,000 members, AAPG provides publications, conferences,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ional opportunities to geoscientists and disseminates the most current geological information available to the general public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160" y="1224000"/>
            <a:ext cx="899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PG Members are divided into 6 Sections depending on their lo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cky Mount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Mid-Continent                    Southwest                    Gulf Coast                    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760" y="1941480"/>
            <a:ext cx="3591360" cy="213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cky Mountain Section of AAP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n-Profi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ms-aapg.org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 President: Tom Ann Casey (Durango, Colora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AAPG members living in Az., Co.,Id., Mt., N.M., Nv.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.D., Ut. and W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MS works with its 11 affiliated societies to hold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ual meeting which is held every year in var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ions throughout the Rocky Mountain reg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ics addressed include current hydrocarbon expl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production, unconventional resources, advances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tural geology and stratigraphy, resource opportunit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geologic context, advances in geophysics and roc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chanics, and related government and policy iss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0" y="4133880"/>
            <a:ext cx="3620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11 affiliated geoscience societies take it in turn to ho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nual RMS-AAPG Geology Conven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880" y="4529160"/>
            <a:ext cx="2759040" cy="1777680"/>
            <a:chOff x="38880" y="4529160"/>
            <a:chExt cx="2759040" cy="1777680"/>
          </a:xfrm>
        </p:grpSpPr>
        <p:sp>
          <p:nvSpPr>
            <p:cNvPr id="46" name=""/>
            <p:cNvSpPr/>
            <p:nvPr/>
          </p:nvSpPr>
          <p:spPr>
            <a:xfrm>
              <a:off x="38880" y="4529160"/>
              <a:ext cx="27590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buquerque Geological Socie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Four Corners Geological Socie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and Junction Geological Socie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aho Association of Professional Geologi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960" y="5146560"/>
              <a:ext cx="20854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tana Geological Socie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vada Petroleum Socie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 Mexico Geological Socie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th Dakota Geological Socie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880" y="5756040"/>
              <a:ext cx="2347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ky Mtn. Association of Geologi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tah Geological Associ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yoming Geological Associ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6600" y="1228680"/>
            <a:ext cx="8972640" cy="476280"/>
          </a:xfrm>
          <a:custGeom>
            <a:avLst/>
            <a:gdLst/>
            <a:ahLst/>
            <a:rect l="l" t="t" r="r" b="b"/>
            <a:pathLst>
              <a:path w="5652" h="300">
                <a:moveTo>
                  <a:pt x="0" y="300"/>
                </a:moveTo>
                <a:lnTo>
                  <a:pt x="0" y="0"/>
                </a:lnTo>
                <a:lnTo>
                  <a:pt x="5652" y="0"/>
                </a:lnTo>
                <a:lnTo>
                  <a:pt x="5652" y="2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72040" y="1019160"/>
            <a:ext cx="0" cy="200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86040" y="4010040"/>
            <a:ext cx="0" cy="200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94280" y="1979640"/>
            <a:ext cx="4916520" cy="10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-AAPG Found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e http://www.rms-aapg.org/foundation.asp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MS-AAPG Foundation was established by the AAPG Rocky Mountain S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purpose of making grants or loans to the member societies (and oth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ations) for publications and other projects that will benefit a large numb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eople in our profession. The Foundation does not fund scholarships,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ations or individual projec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4280" y="2405160"/>
            <a:ext cx="2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86040" y="1704960"/>
            <a:ext cx="0" cy="200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08520" y="3166920"/>
            <a:ext cx="5145120" cy="19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our Corners Geological Society (Non-Pro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ee http://www.fourcornersgeologicalsociety.org/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rrent President: Jim Hornbeck, Farmington, N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osting the 2010 RMS-AAPG Convention in Durango. Colorado over June 11-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Fort Lewis College. The FCGS was formed in the 1950's 1) To provide an assoc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discussion of subjects and problems coming within the scope of the geolog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ession and by such association to advance the science of geology;  2) To promo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echnology of exploring for, finding and producing materials from the earth; 3)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ster the spirit of scientific research; 4) to disseminate information relating to geology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4)  To inspire and maintain a high standard of professional conduct on the part of i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bers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FCGS also has a Found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hich distributes money to FLC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duate schools for student theses on the geology of the Four Corners are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90720" y="3086280"/>
            <a:ext cx="6362640" cy="3762360"/>
          </a:xfrm>
          <a:custGeom>
            <a:avLst/>
            <a:gdLst/>
            <a:ahLst/>
            <a:rect l="l" t="t" r="r" b="b"/>
            <a:pathLst>
              <a:path w="4008" h="2370">
                <a:moveTo>
                  <a:pt x="4008" y="0"/>
                </a:moveTo>
                <a:lnTo>
                  <a:pt x="660" y="0"/>
                </a:lnTo>
                <a:lnTo>
                  <a:pt x="654" y="660"/>
                </a:lnTo>
                <a:lnTo>
                  <a:pt x="522" y="654"/>
                </a:lnTo>
                <a:lnTo>
                  <a:pt x="516" y="852"/>
                </a:lnTo>
                <a:lnTo>
                  <a:pt x="0" y="847"/>
                </a:lnTo>
                <a:lnTo>
                  <a:pt x="0" y="2370"/>
                </a:ln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38480" y="4257720"/>
            <a:ext cx="1676160" cy="552240"/>
          </a:xfrm>
          <a:custGeom>
            <a:avLst/>
            <a:gdLst/>
            <a:ahLst/>
            <a:rect l="l" t="t" r="r" b="b"/>
            <a:pathLst>
              <a:path w="1056" h="348">
                <a:moveTo>
                  <a:pt x="0" y="348"/>
                </a:moveTo>
                <a:lnTo>
                  <a:pt x="942" y="348"/>
                </a:lnTo>
                <a:lnTo>
                  <a:pt x="942" y="0"/>
                </a:lnTo>
                <a:lnTo>
                  <a:pt x="105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143160" y="5268960"/>
            <a:ext cx="6000840" cy="1193400"/>
            <a:chOff x="3143160" y="5268960"/>
            <a:chExt cx="6000840" cy="1193400"/>
          </a:xfrm>
        </p:grpSpPr>
        <p:sp>
          <p:nvSpPr>
            <p:cNvPr id="59" name=""/>
            <p:cNvSpPr/>
            <p:nvPr/>
          </p:nvSpPr>
          <p:spPr>
            <a:xfrm>
              <a:off x="3185640" y="5510160"/>
              <a:ext cx="1066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eting Chairs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im Fasset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m Gerhard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chnical Program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ry Giannin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eve Hayd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13680" y="5510160"/>
              <a:ext cx="1075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hibits &amp; Vendors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eve Hi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onsorships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m Ann Case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im Hornbec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61600" y="5516640"/>
              <a:ext cx="8056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nance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im Hornbec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oe Hewit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blicity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d H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im Fasset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49160" y="5513400"/>
              <a:ext cx="10324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wards &amp; Judging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an Emmendorf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dging &amp;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m Gerhard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b Ow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143160" y="5268960"/>
              <a:ext cx="6000840" cy="1150920"/>
              <a:chOff x="3143160" y="5268960"/>
              <a:chExt cx="6000840" cy="1150920"/>
            </a:xfrm>
          </p:grpSpPr>
          <p:sp>
            <p:nvSpPr>
              <p:cNvPr id="64" name=""/>
              <p:cNvSpPr/>
              <p:nvPr/>
            </p:nvSpPr>
            <p:spPr>
              <a:xfrm>
                <a:off x="4005720" y="5268960"/>
                <a:ext cx="4627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Organizing Committee for the RMS-AAPG 2010 (all are members of FCG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395960" y="5513400"/>
                <a:ext cx="901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ield Trips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ip Hea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vid Gonz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hort Courses: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ason Hoote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143160" y="5295960"/>
                <a:ext cx="6000840" cy="112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6302520" y="5108400"/>
            <a:ext cx="6120" cy="16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924360" y="2292120"/>
            <a:ext cx="0" cy="19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4960" y="6470640"/>
            <a:ext cx="604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Any profit made from from the annual covention is divided up between the host society (FCGS), the 11 affilia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ocieties and RMS-AAPG.  These monies end up funding grants for projects which enhance geoscience understanding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36440" y="461808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3880" y="320832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thly meetings altern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ween Durango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rmingt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8:28:59Z</dcterms:created>
  <dc:creator>Kim Gerhardt</dc:creator>
  <dc:description/>
  <dc:language>en-US</dc:language>
  <cp:lastModifiedBy>Kim Gerhardt</cp:lastModifiedBy>
  <dcterms:modified xsi:type="dcterms:W3CDTF">2010-01-31T18:42:00Z</dcterms:modified>
  <cp:revision>2</cp:revision>
  <dc:subject/>
  <dc:title>Slide 1</dc:title>
</cp:coreProperties>
</file>