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204-1506-4DB5-97C2-8EC4BAAF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6F9-9B4A-411B-9B81-99963D0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F59-E9B1-4B55-93AD-D95DCB64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661-C5A9-4DA9-80E7-A32D7F54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397-A9DF-4B54-A934-BC349D9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9EF-68CD-47E1-B653-E2AEB27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483-C64C-47E6-8E5F-C0FF201D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4F7-3DC8-472A-AD43-01602838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927-0CE4-40AA-96CB-48B5B8F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9D0-C0F5-45A3-AC3D-B4114B7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14F-99F8-4781-95F5-460191C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63C-FF9F-4B80-BDB1-30745CD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719E-621C-48DF-A896-2248754F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42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41600" y="507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1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025720"/>
            <a:ext cx="457200" cy="6159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192320" y="2022120"/>
            <a:ext cx="0" cy="385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192320" y="5923080"/>
            <a:ext cx="0" cy="226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272880" y="3913920"/>
            <a:ext cx="33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1 – Pennsylvanian from Shelf to Basin.  Gary Gianniny, Ki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kell-Gerhardt and Scott Ritter. Day 1.  Look at sed/strat al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Hermosa Cliffs trend.  1 School bus.  Driving distance ~120 mi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303480" y="6806880"/>
            <a:ext cx="22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1, ctd.  Return to Dgo.  Transfer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Tour Coach.  Drive to Bluff, Utah, 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dinner in Cortez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8520" y="866880"/>
            <a:ext cx="4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p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70640" y="1735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65720" y="5079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2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3720" y="1784520"/>
            <a:ext cx="457200" cy="6178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1160" y="790740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y 9p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49520" y="1780920"/>
            <a:ext cx="0" cy="480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49520" y="6568560"/>
            <a:ext cx="0" cy="139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306360" y="3979080"/>
            <a:ext cx="42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1, ctd.   Float SJ River from Bluff to Mexican Hat.  Trasportation by Wild River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ck dinner in Bluf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090080" y="6996600"/>
            <a:ext cx="1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1, ctd.  Drive  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go on tour coach.  To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leage ~24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969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88320" y="860400"/>
            <a:ext cx="4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p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5960" y="2017800"/>
            <a:ext cx="457200" cy="457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61720" y="4058640"/>
            <a:ext cx="40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2, "San Juan Basin Gas Fields and Reservoirs". Chip Head and Don Owe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 Dgo-Fmn-Shiprock-Teec Nos Pos-Cortez-Dgo. 3 Vans.  ~200m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080" y="9270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p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07720" y="654516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y 9p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91520" y="1735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13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9080" y="507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3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2249640"/>
            <a:ext cx="457200" cy="2744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1860480" y="3438720"/>
            <a:ext cx="27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3,  "Geologic Overview of the Western 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an Mountains", David Gonzales.  2 Vans, ~150 m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69640" y="9270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p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32240" y="2241720"/>
            <a:ext cx="457200" cy="4120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1663200" y="4149720"/>
            <a:ext cx="40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ourse 1, "Geology and Geochemistry of Uranium Deposits.  Sam Romberg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bel Hall 125, 20 peo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9440" y="2470320"/>
            <a:ext cx="457200" cy="389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2601000" y="464544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ourse 2, "Source Rocks 101…".  Nick Harris w/ PT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bel Hall 140, 20 peo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8080" y="2938320"/>
            <a:ext cx="447840" cy="223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8080" y="5452920"/>
            <a:ext cx="447840" cy="223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43400" y="2938320"/>
            <a:ext cx="90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43400" y="3162240"/>
            <a:ext cx="90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43400" y="5448240"/>
            <a:ext cx="90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43400" y="5672160"/>
            <a:ext cx="90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75360" y="870120"/>
            <a:ext cx="53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46600" y="870120"/>
            <a:ext cx="53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7160" y="88092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.C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re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97360" y="2705040"/>
            <a:ext cx="457200" cy="3206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1360" y="2698920"/>
            <a:ext cx="0" cy="184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4463280" y="353700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 ride to Silv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84 seats availab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1360" y="4546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1360" y="533412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784760" y="47581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nch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690080" y="54295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urn D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bu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52720" y="880920"/>
            <a:ext cx="5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d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25440" y="25480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74720" y="2782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36920" y="31194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74720" y="5291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74720" y="5640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40320" y="29653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52920" y="546084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1104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72920" y="20588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7120" y="15066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Blu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 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31840" y="162072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 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2640" y="162072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 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2400" y="198288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1600" y="1868400"/>
            <a:ext cx="40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0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9196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7292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93760" y="5888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1040" y="2705040"/>
            <a:ext cx="457200" cy="1373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8360" y="9428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77960" y="25480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4826880" y="314568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up Registration De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SU 213 (locking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 foyer of Ballroo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7160" y="4089240"/>
            <a:ext cx="457200" cy="2740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940640" y="5134680"/>
            <a:ext cx="100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4440" y="814320"/>
            <a:ext cx="59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y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5905440"/>
            <a:ext cx="4478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51000" y="57355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51000" y="63165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598360" y="5899680"/>
            <a:ext cx="63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. Cer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wrds.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lec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3440" y="91908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36920" y="31194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2705040"/>
            <a:ext cx="460440" cy="342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5214600" y="4255920"/>
            <a:ext cx="23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ors set up in Ballroom &amp; Colorado 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 Hines in 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4040" y="25480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2640" y="60991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6880" y="6367320"/>
            <a:ext cx="457200" cy="90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929560" y="666504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ebreaker 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ibit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2640" y="6216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82640" y="72547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7880" y="6624720"/>
            <a:ext cx="10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* Check if cafe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pen for lunch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nday.  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eed long lu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reak to get to 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back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*  Check that w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eally have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pport on Sund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160" y="9302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562040"/>
            <a:ext cx="463680" cy="222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0640" y="14050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0640" y="17352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812160" y="359748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up signs for field trip meeting location and luggage storage loc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9372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6040" y="1560600"/>
            <a:ext cx="460440" cy="252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20720" y="405288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42680" y="13906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1397520" y="2593440"/>
            <a:ext cx="267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nday signs set up for FT 3, Short Courses, Registra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, Exhibits, shuttle busses, + some others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17120" y="1849320"/>
            <a:ext cx="4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b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oy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74720" y="67914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22120" y="8142120"/>
            <a:ext cx="43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8360" y="498780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8637480"/>
            <a:ext cx="632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luggage storage in Senator Room (College Union Bldg. next to Jill Wiegert's office).  But usual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7:30am – 9pm.  Will have to arrange special opening at 7:15am or even 7:00am to get field trips under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224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87240" y="2709720"/>
            <a:ext cx="460440" cy="3206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-365400" y="4150800"/>
            <a:ext cx="25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Display Boards set up in Nobel Hall 160 /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ry Gianniny &amp; Steve Hayden in 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080" y="25527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8040" y="58690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" y="92556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6840" y="824040"/>
            <a:ext cx="5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4440" y="2709720"/>
            <a:ext cx="460440" cy="1378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8120" y="25527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36520" y="405288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671040" y="3160800"/>
            <a:ext cx="137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bel 120 Computer L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up for Spkr Ready 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t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9080" y="9255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95520" y="5224320"/>
            <a:ext cx="465120" cy="2292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31520" y="7462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31520" y="50436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1154520" y="6282000"/>
            <a:ext cx="127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uttle Busses Ru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29960" y="5079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3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, ct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04000" y="507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45880" y="9428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1781280"/>
            <a:ext cx="457200" cy="4581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06000" y="1619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06000" y="6324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2730960" y="4055040"/>
            <a:ext cx="97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02360" y="9428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kf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38360" y="1914480"/>
            <a:ext cx="4446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53840" y="17622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58520" y="2324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75720" y="186516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leci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G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9619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78640" y="96192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2476440"/>
            <a:ext cx="460440" cy="146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753080"/>
            <a:ext cx="460440" cy="1609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3742200" y="2977560"/>
            <a:ext cx="160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30 (200), No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5 (81) CSWS Lyceum ( 12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742200" y="5339880"/>
            <a:ext cx="160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30 (200), No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5 (81) CSWS Lyceum ( 12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05280" y="2476440"/>
            <a:ext cx="447840" cy="146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00600" y="4753080"/>
            <a:ext cx="447840" cy="1609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437720" y="541728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60 and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4437720" y="3112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60 and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4592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3012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4160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1140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41240" y="4600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15720" y="4600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564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3012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17120" y="9507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re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6360" y="293364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51320" y="544824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99920" y="27766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49520" y="3144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9920" y="5284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9920" y="5640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28640" y="1720800"/>
            <a:ext cx="56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No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oy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hi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98080" y="887400"/>
            <a:ext cx="51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nch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21480" y="3962520"/>
            <a:ext cx="450720" cy="704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25800" y="380844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49200" y="46134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5528520" y="410544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-con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nche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. Life Ct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6040" y="93204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2476440"/>
            <a:ext cx="45720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5901120" y="4169880"/>
            <a:ext cx="97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03520" y="23223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06400" y="70153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6135840"/>
            <a:ext cx="44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34120" y="6137280"/>
            <a:ext cx="0" cy="90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5978880" y="641052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ppy Hour 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67840" y="9144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90880" y="2019240"/>
            <a:ext cx="447840" cy="4343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2333520" y="4016520"/>
            <a:ext cx="35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urs and procedure to be determined by Scot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ation Nobel Hall 120 (or if not available, then Computer Lab off Libra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05720" y="6319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86640" y="1855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9372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1080" y="1562040"/>
            <a:ext cx="450720" cy="365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48800" y="1397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55280" y="5181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092240" y="3109680"/>
            <a:ext cx="333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SC &amp; FT signs.  Setup Tech Session, Poster, Speaker Bks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-Convention Luncheon signs plus ot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4768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2108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1347120" y="4345560"/>
            <a:ext cx="186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guest hospitality suite on Sund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383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574640" y="5079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t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17480" y="9428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46640" y="1781280"/>
            <a:ext cx="447480" cy="4581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90560" y="1619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90560" y="6324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4115520" y="4055040"/>
            <a:ext cx="97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73960" y="9428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kf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7080" y="1914480"/>
            <a:ext cx="44424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18960" y="17622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18960" y="23335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28240" y="186516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leci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G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35520" y="9619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150240" y="96192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2476440"/>
            <a:ext cx="460440" cy="146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15000" y="4753080"/>
            <a:ext cx="460440" cy="1609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5126400" y="2977560"/>
            <a:ext cx="160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Sessions 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30 (200), No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5 (81) CSWS Lyceum ( 12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5126400" y="5339880"/>
            <a:ext cx="160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Sessions I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30 (200), No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5 (81) CSWS Lyceum ( 12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78680" y="2476440"/>
            <a:ext cx="450720" cy="146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78680" y="4759200"/>
            <a:ext cx="453960" cy="1609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5821920" y="541728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60 and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5821920" y="3112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60 and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3012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1432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2580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560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25440" y="4600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00280" y="46004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3984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14320" y="6319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39440" y="9144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251320" y="2019240"/>
            <a:ext cx="457200" cy="4343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3698640" y="4016520"/>
            <a:ext cx="35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urs and procedure to be determined by Scot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ation Nobel Hall 120 (or if not available, then Computer Lab off Libra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77280" y="5079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5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36520" y="887400"/>
            <a:ext cx="47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A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kf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2019240"/>
            <a:ext cx="4572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1109880" y="21027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ll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2476440"/>
            <a:ext cx="453960" cy="3886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662400" y="4326480"/>
            <a:ext cx="21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hospitality suite open in Strater Ho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4160" y="2705040"/>
            <a:ext cx="466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1006560" y="4236120"/>
            <a:ext cx="25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ided tour of Mesa Verde National Park for G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86920" y="1855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6920" y="24368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44120" y="23130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4120" y="63324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10680" y="25416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082240" y="58658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9048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046960" y="896760"/>
            <a:ext cx="4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tiv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87600" y="896760"/>
            <a:ext cx="48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tiv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6819840"/>
            <a:ext cx="460440" cy="1596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2190960" y="7254360"/>
            <a:ext cx="11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uckwag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-D Dinner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stern stage sh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52040" y="66470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36880" y="896760"/>
            <a:ext cx="55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r D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681984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94840" y="66470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2766600" y="600336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bus fr F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bus f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52040" y="83613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838692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62360" y="856296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bus toF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bus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 Center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 shuttle rou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4400" y="9255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81280"/>
            <a:ext cx="457200" cy="5495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43360" y="4443120"/>
            <a:ext cx="127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uttle Busses Ru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7120" y="16239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0640" y="72439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58240" y="1849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70840" y="6338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6532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92680" y="1562040"/>
            <a:ext cx="450720" cy="365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20400" y="1397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26880" y="5181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2322360" y="320004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C Luncheon &amp; other outdated signs.  Setup Tech Session, Post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gns and others as necess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9268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51920" y="2770200"/>
            <a:ext cx="64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i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AP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918360" y="4325040"/>
            <a:ext cx="19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by Heath and June Owen in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537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172200" y="2476440"/>
            <a:ext cx="457200" cy="1473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1320" y="1917720"/>
            <a:ext cx="463680" cy="463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43400" y="1562040"/>
            <a:ext cx="450720" cy="365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63480" y="9255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04880" y="1781280"/>
            <a:ext cx="457200" cy="5495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6200000">
            <a:off x="1162440" y="4443120"/>
            <a:ext cx="127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uttle Busses Ru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636200" y="16239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9720" y="72439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62080" y="2476440"/>
            <a:ext cx="447840" cy="3886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1092600" y="4325040"/>
            <a:ext cx="21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hospitality suite open in Strater Ho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09920" y="3162240"/>
            <a:ext cx="46656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1837800" y="3845880"/>
            <a:ext cx="17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ur of Historic Durango w/ Mr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's Town Ladies then lunch 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r with Victorian Fashion Sh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6000" y="23130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06000" y="63324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72560" y="25416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44120" y="49766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236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8840" y="896760"/>
            <a:ext cx="4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tiv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35120" y="29988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26080" y="884160"/>
            <a:ext cx="52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ec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07400" y="896760"/>
            <a:ext cx="5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t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c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76480" y="6362640"/>
            <a:ext cx="4572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33680" y="6819840"/>
            <a:ext cx="4572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2928240" y="6365880"/>
            <a:ext cx="55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en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al 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3273120" y="714384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llman 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3080160" y="61412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esident's Rece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s by invitation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401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0680" y="5079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5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t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3680" y="9507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re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0480" y="293364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90480" y="5448240"/>
            <a:ext cx="45720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2960" y="27766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82200" y="3144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32960" y="5284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2960" y="5640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2880" y="1735200"/>
            <a:ext cx="56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No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oy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hi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82160" y="93204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2476440"/>
            <a:ext cx="45720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6200000">
            <a:off x="880200" y="4169880"/>
            <a:ext cx="97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182240" y="23162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85120" y="70153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957600" y="64072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ppy Hour 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141560" y="6129360"/>
            <a:ext cx="44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03480" y="6134040"/>
            <a:ext cx="0" cy="90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96480" y="5551560"/>
            <a:ext cx="747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tend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eterm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ALC 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A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40640" y="5079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6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32252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77600" y="1397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384080" y="5181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731320" y="3182760"/>
            <a:ext cx="367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utdated signs.  Setup Tech Session, Poster, FT 5 meeting loc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gns and others as necess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74680" y="94284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03840" y="1781280"/>
            <a:ext cx="447480" cy="2295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847760" y="1619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90880" y="40575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4528080" y="2848680"/>
            <a:ext cx="97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31160" y="94284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kf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85440" y="186516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leci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G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289120" y="17622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89120" y="23335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03120" y="9144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k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2019240"/>
            <a:ext cx="45720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821560" y="1849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34520" y="4046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4964040" y="2947680"/>
            <a:ext cx="193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urs to be determined by Scott Wh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5577120" y="2977560"/>
            <a:ext cx="160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Sessions 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30 (200), No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5 (81) CSWS Lyceum ( 12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18120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652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41960" y="9619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e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1369080" y="4312440"/>
            <a:ext cx="19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by Heath and June Owen in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686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343400" y="1552680"/>
            <a:ext cx="447840" cy="252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53640" y="5079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6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, ct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0840" y="95076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92280" y="2476440"/>
            <a:ext cx="450720" cy="146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6200000">
            <a:off x="335520" y="3112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Nobel 160 and 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27920" y="2319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9200" y="3909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91160" y="9507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re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80440" y="27766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30040" y="31449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080360" y="1735200"/>
            <a:ext cx="56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No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oy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xhib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143000" y="2933640"/>
            <a:ext cx="45252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539360" y="93204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2476440"/>
            <a:ext cx="457200" cy="343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1337400" y="3089880"/>
            <a:ext cx="97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39440" y="23162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593720" y="4076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1207080" y="4725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ibit Hall Break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36880" y="900000"/>
            <a:ext cx="49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63880" y="4076640"/>
            <a:ext cx="450720" cy="1828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1461240" y="482616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er Booth break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bel Hall 160 &amp; 110, GLG &amp; 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55560" y="9763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21080" y="1784520"/>
            <a:ext cx="450720" cy="25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33320" y="42750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532960" y="16207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2119680" y="2999160"/>
            <a:ext cx="127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uttle Busses Ru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71080" y="95076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05920" y="40338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971800" y="4527720"/>
            <a:ext cx="457200" cy="2292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77920" y="43704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00 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7920" y="67896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 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2098440" y="5510520"/>
            <a:ext cx="222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5, Eolian Reservoir Analogs.  Ka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ncan Benitez and Gary Gianniny.  Day 1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 to Moab in 1 tour coach w/stop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58120" y="6980400"/>
            <a:ext cx="46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357360" y="903240"/>
            <a:ext cx="57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amp; 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429000" y="4076640"/>
            <a:ext cx="457200" cy="1833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16200000">
            <a:off x="2710800" y="4806360"/>
            <a:ext cx="18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 Nobel 140 for Short Course. R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ve outdated signs, put up new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urs. short course &amp; fieldtrip 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630800" y="5964120"/>
            <a:ext cx="4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049840" y="5964120"/>
            <a:ext cx="4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453480" y="5964120"/>
            <a:ext cx="4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95000" y="5079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7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1784520"/>
            <a:ext cx="450720" cy="503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3527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55600" y="160812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 (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74680" y="68086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 (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3546720" y="35114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eld trip 5, Day 2. Look at Permian, Cedar Mesa Fm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Canyonlands National Par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800600" y="54482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4379760" y="597528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 back to Durang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~250 miles driving tot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309200" y="8201160"/>
            <a:ext cx="155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ck when evening fligh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Dgo to see if constra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return tim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16000" y="700560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y 9p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002200" y="80625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87280" y="95076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2252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377600" y="139716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3540240" y="2662560"/>
            <a:ext cx="208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utdated, setup FT 4 meeting l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short course signs if didn't do W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ela Leschak &amp; Tom John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443840" y="4027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84440" y="1046160"/>
            <a:ext cx="3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48440" y="1784520"/>
            <a:ext cx="466560" cy="503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2981160" y="4304160"/>
            <a:ext cx="48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trip 4 – Detection and Mitigation of Methane Seeps…, KMG, Bill Flint, Karen Spray, Chris Carroll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 Fruitland rim W to E.  2 Vans.  ~200 miles tot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84000" y="16048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00 (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02760" y="1271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85440" y="12841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44480" y="6808680"/>
            <a:ext cx="53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00 (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85800" y="700560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y 9p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683320" y="874800"/>
            <a:ext cx="53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15000" y="2241720"/>
            <a:ext cx="450720" cy="4120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61720" y="17413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36600" y="208764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27240" y="6326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81160" y="653580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y 9p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4723560" y="405108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ourse 3, "Utilizing LWD Technologies…"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ker Hughes, Nobel Hall 140, 20 peo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189840" y="2938320"/>
            <a:ext cx="447480" cy="223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89840" y="5452920"/>
            <a:ext cx="447480" cy="223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18920" y="88092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.C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fre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ea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16120" y="27828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216120" y="52912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216120" y="564048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78320" y="31194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158520" y="1849320"/>
            <a:ext cx="4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b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oy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538360" y="452916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6387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10640" y="7554960"/>
            <a:ext cx="73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90880" y="2476440"/>
            <a:ext cx="44784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rot="16200000">
            <a:off x="3402360" y="315720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hospitality suite o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Strater Ho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34800" y="231300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81160" y="92556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90520" y="405288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852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654480" y="50796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705040"/>
            <a:ext cx="457200" cy="1371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95520" y="950760"/>
            <a:ext cx="4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ean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16200000">
            <a:off x="165600" y="3144240"/>
            <a:ext cx="149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 remaining sign removal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king up on campus or 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 Center,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596960" y="493560"/>
            <a:ext cx="0" cy="7693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35840" y="2522520"/>
            <a:ext cx="37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8040" y="4059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871560"/>
            <a:ext cx="6634080" cy="14655240"/>
            <a:chOff x="0" y="871560"/>
            <a:chExt cx="6634080" cy="14655240"/>
          </a:xfrm>
        </p:grpSpPr>
        <p:grpSp>
          <p:nvGrpSpPr>
            <p:cNvPr id="939" name=""/>
            <p:cNvGrpSpPr/>
            <p:nvPr/>
          </p:nvGrpSpPr>
          <p:grpSpPr>
            <a:xfrm>
              <a:off x="0" y="871560"/>
              <a:ext cx="6634080" cy="14655240"/>
              <a:chOff x="0" y="871560"/>
              <a:chExt cx="6634080" cy="1465524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1516032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3280" y="874440"/>
                <a:ext cx="6400800" cy="731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90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46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987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060640" y="871560"/>
                <a:ext cx="0" cy="73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17840" y="871560"/>
                <a:ext cx="0" cy="73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9750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432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89440" y="871560"/>
                <a:ext cx="0" cy="73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46640" y="871560"/>
                <a:ext cx="0" cy="73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99160" y="871560"/>
                <a:ext cx="0" cy="73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25636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718240" y="871560"/>
                <a:ext cx="0" cy="73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75440" y="871560"/>
                <a:ext cx="0" cy="73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33280" y="1334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33280" y="178740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33280" y="2249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3280" y="2706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3280" y="3163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33280" y="3620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33280" y="4078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3280" y="4535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33280" y="4992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3280" y="5449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33280" y="5906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33280" y="6364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33280" y="6821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33280" y="7278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33280" y="1563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33280" y="2020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33280" y="2477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33280" y="2935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33280" y="3392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33280" y="3849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33280" y="4306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33280" y="4763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33280" y="5221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33280" y="5678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33280" y="61354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33280" y="6592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33280" y="70498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33280" y="75070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33280" y="77356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33280" y="7964280"/>
                <a:ext cx="64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74680" y="13050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80" y="1538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4680" y="1766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4680" y="1995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4680" y="2228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4680" y="24573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4680" y="2681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4680" y="29145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3320" y="3138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680" y="4510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4680" y="4738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680" y="4967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74680" y="5195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4680" y="5424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680" y="5653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80" y="5881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4680" y="6110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4680" y="6338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4680" y="656280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4680" y="67960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80" y="70246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4680" y="72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4680" y="74818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4680" y="77104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4680" y="794376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3320" y="33670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3320" y="35956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320" y="381960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3320" y="40528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3320" y="428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: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294840" y="1333440"/>
              <a:ext cx="190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285480" y="7962480"/>
              <a:ext cx="572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680" y="8153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: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23:51:41Z</dcterms:created>
  <dc:creator>Kim Gerhardt</dc:creator>
  <dc:description/>
  <dc:language>en-US</dc:language>
  <cp:lastModifiedBy>Kim Gerhardt</cp:lastModifiedBy>
  <dcterms:modified xsi:type="dcterms:W3CDTF">2010-01-19T16:02:43Z</dcterms:modified>
  <cp:revision>14</cp:revision>
  <dc:subject/>
  <dc:title>Slide 1</dc:title>
</cp:coreProperties>
</file>