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12179300" cy="9132888"/>
  <p:notesSz cx="21031200" cy="2121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1031200" cy="212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9115560" cy="1063800"/>
          </a:xfrm>
          <a:prstGeom prst="rect">
            <a:avLst/>
          </a:prstGeom>
          <a:noFill/>
          <a:ln w="0">
            <a:noFill/>
          </a:ln>
        </p:spPr>
        <p:txBody>
          <a:bodyPr lIns="236880" rIns="236880" tIns="118440" bIns="11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1910600" y="-360"/>
            <a:ext cx="9115560" cy="1063800"/>
          </a:xfrm>
          <a:prstGeom prst="rect">
            <a:avLst/>
          </a:prstGeom>
          <a:noFill/>
          <a:ln w="0">
            <a:noFill/>
          </a:ln>
        </p:spPr>
        <p:txBody>
          <a:bodyPr lIns="236880" rIns="236880" tIns="118440" bIns="118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211360" y="1588680"/>
            <a:ext cx="10605960" cy="795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236880" rIns="236880" tIns="118440" bIns="1184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2104560" y="10077480"/>
            <a:ext cx="16819560" cy="9545760"/>
          </a:xfrm>
          <a:prstGeom prst="rect">
            <a:avLst/>
          </a:prstGeom>
          <a:noFill/>
          <a:ln w="0">
            <a:noFill/>
          </a:ln>
        </p:spPr>
        <p:txBody>
          <a:bodyPr lIns="236880" rIns="236880" tIns="118440" bIns="118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20146680"/>
            <a:ext cx="9115560" cy="1060200"/>
          </a:xfrm>
          <a:prstGeom prst="rect">
            <a:avLst/>
          </a:prstGeom>
          <a:noFill/>
          <a:ln w="0">
            <a:noFill/>
          </a:ln>
        </p:spPr>
        <p:txBody>
          <a:bodyPr lIns="236880" rIns="236880" tIns="118440" bIns="118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1910600" y="20146680"/>
            <a:ext cx="9115560" cy="1060200"/>
          </a:xfrm>
          <a:prstGeom prst="rect">
            <a:avLst/>
          </a:prstGeom>
          <a:noFill/>
          <a:ln w="0">
            <a:noFill/>
          </a:ln>
        </p:spPr>
        <p:txBody>
          <a:bodyPr lIns="236880" rIns="236880" tIns="118440" bIns="118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B2BE-32F2-45D5-A9A4-6B826C26CAAB}" type="slidenum">
              <a:rPr b="0" lang="en-US" sz="3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5211720" y="1589040"/>
            <a:ext cx="10605960" cy="79549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2104560" y="10077480"/>
            <a:ext cx="16819560" cy="95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11910960" y="20147040"/>
            <a:ext cx="91155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6880" rIns="236880" tIns="118440" bIns="118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DD50-4675-4D32-AE7B-50E4B87A0A91}" type="slidenum">
              <a:rPr b="0" lang="en-US" sz="3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5211720" y="1589040"/>
            <a:ext cx="10605960" cy="79549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2104560" y="10077480"/>
            <a:ext cx="16819560" cy="95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11910960" y="20147040"/>
            <a:ext cx="91155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6880" rIns="236880" tIns="118440" bIns="118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1943-4FAD-4A3E-B786-30E4FF5252A6}" type="slidenum">
              <a:rPr b="0" lang="en-US" sz="3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F53-6E0B-462A-A3AA-7872187D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1EC-F92B-4BCA-9FB5-96A3866B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0B0-2BB3-412B-884F-C6B24649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67C-86CB-49A1-808D-909B0F50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177-0589-48C4-A6DA-8835B2BD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E5D-F112-4CA9-AB51-51C1611F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20F-727B-47BE-855C-54874C85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E48-E0F7-45B3-8C4B-76DD7B13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DFA-068A-470A-A50E-C2A76A95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37A-87CE-4004-BD49-7DDD81A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ECC-0B05-40B9-876A-F5F606B6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6F1-7D73-4967-86DE-40996AC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16C0-6004-4A46-9446-5086EB9E9AC6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136520" y="311940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MEETI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 flipV="1">
            <a:off x="10585440" y="681120"/>
            <a:ext cx="0" cy="64008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4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Group 16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6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2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4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527040" y="479268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04920" y="360360"/>
            <a:ext cx="1172844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REGISTRATION, EXHIBIT HALL, POSTER SESSION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llege Union Bld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74760" y="85294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0890360" y="3424320"/>
            <a:ext cx="0" cy="441936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158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160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527040" y="479268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04920" y="360360"/>
            <a:ext cx="1172844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REGISTRATION, EXHIBIT HALL, POSTER SESSION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llege Union Bld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74760" y="85294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0890360" y="3424320"/>
            <a:ext cx="0" cy="441936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169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171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304920" y="360360"/>
            <a:ext cx="11728440" cy="80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EGISTRATION, EXHIBIT HALL, POSTER SESS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llege Union Bld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527040" y="3881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374760" y="85294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179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181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Line 13"/>
          <p:cNvSpPr/>
          <p:nvPr/>
        </p:nvSpPr>
        <p:spPr>
          <a:xfrm>
            <a:off x="2994120" y="6777000"/>
            <a:ext cx="8277120" cy="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74960" y="1503360"/>
            <a:ext cx="100584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RMS-AAPG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TO ELEVATO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190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192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Line 13"/>
          <p:cNvSpPr/>
          <p:nvPr/>
        </p:nvSpPr>
        <p:spPr>
          <a:xfrm>
            <a:off x="2127240" y="6777000"/>
            <a:ext cx="8277120" cy="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1974960" y="1503360"/>
            <a:ext cx="990576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RMS-AAPG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TO ELEVATO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201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203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Line 12"/>
          <p:cNvSpPr/>
          <p:nvPr/>
        </p:nvSpPr>
        <p:spPr>
          <a:xfrm>
            <a:off x="2127240" y="6777000"/>
            <a:ext cx="8277120" cy="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2050920" y="757080"/>
            <a:ext cx="95252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LUGGAGE STORAGE &amp; COAT ROO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m 163, Senate Chamb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212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214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>
            <a:off x="3117960" y="7157880"/>
            <a:ext cx="7238880" cy="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2050920" y="757080"/>
            <a:ext cx="95252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LUGGAGE STORAGE &amp; COAT ROO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m 163, Senate Chamb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223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225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Line 13"/>
          <p:cNvSpPr/>
          <p:nvPr/>
        </p:nvSpPr>
        <p:spPr>
          <a:xfrm flipH="1">
            <a:off x="3041640" y="7234200"/>
            <a:ext cx="7238880" cy="18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2050920" y="969840"/>
            <a:ext cx="95252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POSTER SESSION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m 211 – Colorado Room, Adjacent to Ball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234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236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Line 12"/>
          <p:cNvSpPr/>
          <p:nvPr/>
        </p:nvSpPr>
        <p:spPr>
          <a:xfrm>
            <a:off x="3117960" y="6929280"/>
            <a:ext cx="7238880" cy="0"/>
          </a:xfrm>
          <a:prstGeom prst="line">
            <a:avLst/>
          </a:prstGeom>
          <a:ln w="3808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4"/>
          <p:cNvSpPr/>
          <p:nvPr/>
        </p:nvSpPr>
        <p:spPr>
          <a:xfrm>
            <a:off x="1517760" y="4932360"/>
            <a:ext cx="9524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EGISTRATION &amp; EXHIBIT H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1746360" y="528480"/>
            <a:ext cx="7772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POSTER SESS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246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248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12"/>
          <p:cNvSpPr/>
          <p:nvPr/>
        </p:nvSpPr>
        <p:spPr>
          <a:xfrm>
            <a:off x="1670040" y="7920000"/>
            <a:ext cx="5181480" cy="0"/>
          </a:xfrm>
          <a:prstGeom prst="line">
            <a:avLst/>
          </a:prstGeom>
          <a:ln w="31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4032000" y="3456000"/>
            <a:ext cx="5257800" cy="46080"/>
          </a:xfrm>
          <a:prstGeom prst="line">
            <a:avLst/>
          </a:prstGeom>
          <a:ln w="31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831960" y="6811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2813040" y="681120"/>
            <a:ext cx="846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74760" y="85136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 flipV="1">
            <a:off x="4336920" y="3042720"/>
            <a:ext cx="0" cy="441972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259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261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14"/>
          <p:cNvSpPr/>
          <p:nvPr/>
        </p:nvSpPr>
        <p:spPr>
          <a:xfrm>
            <a:off x="69840" y="3484440"/>
            <a:ext cx="40384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Flo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e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on Bld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4641840" y="3484440"/>
            <a:ext cx="701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o Registration, Exhibit Hall, Poster Sessions, Icebreak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2584440" y="264636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PARKI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3193560" y="7234200"/>
            <a:ext cx="7239240" cy="18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65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67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432160" y="579600"/>
            <a:ext cx="9524880" cy="73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BLE H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cal Sessions, Spe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y Room, Short Cour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ALLECITO 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Ceremony &amp; Award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’s Breakfasts, DPA Lunche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ENTER FOR SW STUD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onvention Lunche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374760" y="85294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 flipV="1">
            <a:off x="1441440" y="2890440"/>
            <a:ext cx="0" cy="441972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272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274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281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283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Line 13"/>
          <p:cNvSpPr/>
          <p:nvPr/>
        </p:nvSpPr>
        <p:spPr>
          <a:xfrm flipH="1">
            <a:off x="1593720" y="7645320"/>
            <a:ext cx="8305920" cy="46080"/>
          </a:xfrm>
          <a:prstGeom prst="line">
            <a:avLst/>
          </a:prstGeom>
          <a:ln w="31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527040" y="376200"/>
            <a:ext cx="11353680" cy="71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VALLECIT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pening Ceremony &amp; Aw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peaker’s Breakfa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PA Lunche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292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294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Line 13"/>
          <p:cNvSpPr/>
          <p:nvPr/>
        </p:nvSpPr>
        <p:spPr>
          <a:xfrm flipH="1">
            <a:off x="1593720" y="7645320"/>
            <a:ext cx="8305920" cy="46080"/>
          </a:xfrm>
          <a:prstGeom prst="line">
            <a:avLst/>
          </a:prstGeom>
          <a:ln w="31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527040" y="376200"/>
            <a:ext cx="11353680" cy="71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VALLECIT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pening Ceremony &amp; Aw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peaker’s Breakfa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PA Lunche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303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305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Line 13"/>
          <p:cNvSpPr/>
          <p:nvPr/>
        </p:nvSpPr>
        <p:spPr>
          <a:xfrm flipH="1">
            <a:off x="1593720" y="7615080"/>
            <a:ext cx="8305920" cy="46080"/>
          </a:xfrm>
          <a:prstGeom prst="line">
            <a:avLst/>
          </a:prstGeom>
          <a:ln w="31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527040" y="376200"/>
            <a:ext cx="11353680" cy="70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DURANGO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RANSIT CEN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NVENTION SHUTT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BUS STO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314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5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316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Line 13"/>
          <p:cNvSpPr/>
          <p:nvPr/>
        </p:nvSpPr>
        <p:spPr>
          <a:xfrm flipH="1">
            <a:off x="1593720" y="7615080"/>
            <a:ext cx="8305920" cy="46080"/>
          </a:xfrm>
          <a:prstGeom prst="line">
            <a:avLst/>
          </a:prstGeom>
          <a:ln w="31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527040" y="376200"/>
            <a:ext cx="11353680" cy="70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DURANGO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RANSIT CEN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NVENTION SHUTT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BUS STO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4"/>
          <p:cNvSpPr/>
          <p:nvPr/>
        </p:nvSpPr>
        <p:spPr>
          <a:xfrm>
            <a:off x="755640" y="452520"/>
            <a:ext cx="7772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L CONVENTION LUNCHEO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if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18"/>
          <p:cNvSpPr/>
          <p:nvPr/>
        </p:nvSpPr>
        <p:spPr>
          <a:xfrm flipV="1">
            <a:off x="374760" y="375840"/>
            <a:ext cx="11430000" cy="838188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326" name="Picture 1" descr=""/>
            <p:cNvPicPr/>
            <p:nvPr/>
          </p:nvPicPr>
          <p:blipFill>
            <a:blip r:embed="rId1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7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328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Line 6"/>
          <p:cNvSpPr/>
          <p:nvPr/>
        </p:nvSpPr>
        <p:spPr>
          <a:xfrm flipV="1">
            <a:off x="1212840" y="2814480"/>
            <a:ext cx="0" cy="472464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5"/>
          <p:cNvSpPr/>
          <p:nvPr/>
        </p:nvSpPr>
        <p:spPr>
          <a:xfrm>
            <a:off x="2584440" y="4932360"/>
            <a:ext cx="9067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ESSIONS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enter for SW Stud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"/>
          <p:cNvSpPr/>
          <p:nvPr/>
        </p:nvSpPr>
        <p:spPr>
          <a:xfrm flipV="1">
            <a:off x="7461360" y="1636560"/>
            <a:ext cx="4190760" cy="315936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8319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339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0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341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Rectangle 12"/>
          <p:cNvSpPr/>
          <p:nvPr/>
        </p:nvSpPr>
        <p:spPr>
          <a:xfrm>
            <a:off x="527040" y="376200"/>
            <a:ext cx="11353680" cy="73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ENTER FOR SW STUD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1517760" y="4186080"/>
            <a:ext cx="0" cy="419112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350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1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352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Rectangle 12"/>
          <p:cNvSpPr/>
          <p:nvPr/>
        </p:nvSpPr>
        <p:spPr>
          <a:xfrm>
            <a:off x="527040" y="376200"/>
            <a:ext cx="11353680" cy="73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ENTER FOR SW STUD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 flipV="1">
            <a:off x="1517760" y="4186080"/>
            <a:ext cx="0" cy="419112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361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363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Rectangle 12"/>
          <p:cNvSpPr/>
          <p:nvPr/>
        </p:nvSpPr>
        <p:spPr>
          <a:xfrm>
            <a:off x="527040" y="376200"/>
            <a:ext cx="11353680" cy="73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ENTER FOR SW STUD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 flipV="1">
            <a:off x="1517760" y="4186080"/>
            <a:ext cx="0" cy="419112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372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3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374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12"/>
          <p:cNvSpPr/>
          <p:nvPr/>
        </p:nvSpPr>
        <p:spPr>
          <a:xfrm>
            <a:off x="527040" y="376200"/>
            <a:ext cx="11353680" cy="73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ENTER FOR SW STUD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 flipV="1">
            <a:off x="1517760" y="4186080"/>
            <a:ext cx="0" cy="419112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3041640" y="74124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MEETI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 flipH="1">
            <a:off x="1289160" y="6091200"/>
            <a:ext cx="3962160" cy="18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175360" y="4948200"/>
            <a:ext cx="2438280" cy="2362320"/>
          </a:xfrm>
          <a:prstGeom prst="ellipse">
            <a:avLst/>
          </a:prstGeom>
          <a:noFill/>
          <a:ln w="444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6470640" y="7386480"/>
            <a:ext cx="0" cy="1067040"/>
          </a:xfrm>
          <a:prstGeom prst="line">
            <a:avLst/>
          </a:prstGeom>
          <a:ln w="63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 rot="19815000">
            <a:off x="4718160" y="6548400"/>
            <a:ext cx="1066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 rot="18439200">
            <a:off x="5137200" y="7043400"/>
            <a:ext cx="1066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80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15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82" name="Text Box 16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7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8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Oval 18"/>
          <p:cNvSpPr/>
          <p:nvPr/>
        </p:nvSpPr>
        <p:spPr>
          <a:xfrm>
            <a:off x="5848200" y="557208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470640" y="4414680"/>
            <a:ext cx="0" cy="533520"/>
          </a:xfrm>
          <a:prstGeom prst="line">
            <a:avLst/>
          </a:prstGeom>
          <a:ln w="63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7842240" y="5862600"/>
            <a:ext cx="0" cy="533520"/>
          </a:xfrm>
          <a:prstGeom prst="line">
            <a:avLst/>
          </a:prstGeom>
          <a:ln w="63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383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385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8" name="Rectangle 12"/>
          <p:cNvSpPr/>
          <p:nvPr/>
        </p:nvSpPr>
        <p:spPr>
          <a:xfrm>
            <a:off x="527040" y="376200"/>
            <a:ext cx="1135368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ENTER FOR SW STUDI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Rm 120, Lyceum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er building &amp; go to the lef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6"/>
          <p:cNvGrpSpPr/>
          <p:nvPr/>
        </p:nvGrpSpPr>
        <p:grpSpPr>
          <a:xfrm>
            <a:off x="2584080" y="6777000"/>
            <a:ext cx="4267080" cy="1828800"/>
            <a:chOff x="2584080" y="6777000"/>
            <a:chExt cx="4267080" cy="1828800"/>
          </a:xfrm>
        </p:grpSpPr>
        <p:sp>
          <p:nvSpPr>
            <p:cNvPr id="390" name="Line 6"/>
            <p:cNvSpPr/>
            <p:nvPr/>
          </p:nvSpPr>
          <p:spPr>
            <a:xfrm flipH="1">
              <a:off x="2584080" y="6992640"/>
              <a:ext cx="4267080" cy="45720"/>
            </a:xfrm>
            <a:prstGeom prst="line">
              <a:avLst/>
            </a:prstGeom>
            <a:ln w="444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traight Connector 15"/>
            <p:cNvSpPr/>
            <p:nvPr/>
          </p:nvSpPr>
          <p:spPr>
            <a:xfrm flipH="1">
              <a:off x="6699240" y="6777000"/>
              <a:ext cx="1440" cy="1828800"/>
            </a:xfrm>
            <a:prstGeom prst="line">
              <a:avLst/>
            </a:prstGeom>
            <a:ln w="444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396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7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398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Rectangle 12"/>
          <p:cNvSpPr/>
          <p:nvPr/>
        </p:nvSpPr>
        <p:spPr>
          <a:xfrm>
            <a:off x="450720" y="376200"/>
            <a:ext cx="1135404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LL CONVENTION 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6"/>
          <p:cNvSpPr/>
          <p:nvPr/>
        </p:nvSpPr>
        <p:spPr>
          <a:xfrm flipV="1">
            <a:off x="1365120" y="4566960"/>
            <a:ext cx="0" cy="380988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407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8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409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Rectangle 12"/>
          <p:cNvSpPr/>
          <p:nvPr/>
        </p:nvSpPr>
        <p:spPr>
          <a:xfrm>
            <a:off x="450720" y="376200"/>
            <a:ext cx="1135404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LL CONVENTION 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V="1">
            <a:off x="1365120" y="4566960"/>
            <a:ext cx="0" cy="380988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418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420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Rectangle 12"/>
          <p:cNvSpPr/>
          <p:nvPr/>
        </p:nvSpPr>
        <p:spPr>
          <a:xfrm>
            <a:off x="450720" y="376200"/>
            <a:ext cx="1135404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LL CONVENTION 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"/>
          <p:cNvSpPr/>
          <p:nvPr/>
        </p:nvSpPr>
        <p:spPr>
          <a:xfrm flipV="1">
            <a:off x="1365120" y="4566960"/>
            <a:ext cx="0" cy="380988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429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0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431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Rectangle 12"/>
          <p:cNvSpPr/>
          <p:nvPr/>
        </p:nvSpPr>
        <p:spPr>
          <a:xfrm>
            <a:off x="450720" y="376200"/>
            <a:ext cx="1135404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LL CONVENTION 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365120" y="4566960"/>
            <a:ext cx="0" cy="380988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440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1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442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Rectangle 12"/>
          <p:cNvSpPr/>
          <p:nvPr/>
        </p:nvSpPr>
        <p:spPr>
          <a:xfrm>
            <a:off x="450720" y="376200"/>
            <a:ext cx="1135404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LL CONVENTION 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6"/>
          <p:cNvSpPr/>
          <p:nvPr/>
        </p:nvSpPr>
        <p:spPr>
          <a:xfrm flipV="1">
            <a:off x="1365120" y="4566960"/>
            <a:ext cx="0" cy="380988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451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453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Rectangle 12"/>
          <p:cNvSpPr/>
          <p:nvPr/>
        </p:nvSpPr>
        <p:spPr>
          <a:xfrm>
            <a:off x="450720" y="376200"/>
            <a:ext cx="1135404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LL CONVENTION 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"/>
          <p:cNvSpPr/>
          <p:nvPr/>
        </p:nvSpPr>
        <p:spPr>
          <a:xfrm flipV="1">
            <a:off x="1365120" y="7691040"/>
            <a:ext cx="5867640" cy="5076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462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3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464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Rectangle 12"/>
          <p:cNvSpPr/>
          <p:nvPr/>
        </p:nvSpPr>
        <p:spPr>
          <a:xfrm>
            <a:off x="450720" y="376200"/>
            <a:ext cx="1135404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LL CONVENTION 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6"/>
          <p:cNvSpPr/>
          <p:nvPr/>
        </p:nvSpPr>
        <p:spPr>
          <a:xfrm flipH="1">
            <a:off x="1060200" y="7767720"/>
            <a:ext cx="5715000" cy="7596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473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475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Rectangle 12"/>
          <p:cNvSpPr/>
          <p:nvPr/>
        </p:nvSpPr>
        <p:spPr>
          <a:xfrm>
            <a:off x="450720" y="376200"/>
            <a:ext cx="1135404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LL CONVENTION 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6"/>
          <p:cNvSpPr/>
          <p:nvPr/>
        </p:nvSpPr>
        <p:spPr>
          <a:xfrm flipV="1">
            <a:off x="1365120" y="7691040"/>
            <a:ext cx="5867640" cy="5076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45072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>
            <a:off x="374760" y="852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484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486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Rectangle 12"/>
          <p:cNvSpPr/>
          <p:nvPr/>
        </p:nvSpPr>
        <p:spPr>
          <a:xfrm>
            <a:off x="450720" y="376200"/>
            <a:ext cx="1135404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LL CONVENTION 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tudent Life Cen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"/>
          <p:cNvSpPr/>
          <p:nvPr/>
        </p:nvSpPr>
        <p:spPr>
          <a:xfrm flipV="1">
            <a:off x="1365120" y="7691040"/>
            <a:ext cx="5867640" cy="5076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584440" y="243360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MEETI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 flipH="1">
            <a:off x="3041640" y="7234200"/>
            <a:ext cx="7238880" cy="18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94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96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495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6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497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04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5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06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13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15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22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3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24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31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33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3117960" y="985680"/>
            <a:ext cx="8686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LUGGAGE STORAG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 flipH="1">
            <a:off x="3193560" y="7234200"/>
            <a:ext cx="7239240" cy="18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42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3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44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3117960" y="1906560"/>
            <a:ext cx="8686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LUGGAGE STORAG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52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3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54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Line 8"/>
          <p:cNvSpPr/>
          <p:nvPr/>
        </p:nvSpPr>
        <p:spPr>
          <a:xfrm flipV="1">
            <a:off x="1746360" y="2967120"/>
            <a:ext cx="0" cy="54864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"/>
          <p:cNvSpPr/>
          <p:nvPr/>
        </p:nvSpPr>
        <p:spPr>
          <a:xfrm>
            <a:off x="3117960" y="1906560"/>
            <a:ext cx="8686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LUGGAGE STORAG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63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4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65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Line 8"/>
          <p:cNvSpPr/>
          <p:nvPr/>
        </p:nvSpPr>
        <p:spPr>
          <a:xfrm flipV="1">
            <a:off x="1746360" y="2967120"/>
            <a:ext cx="0" cy="54864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/>
          <p:cNvSpPr/>
          <p:nvPr/>
        </p:nvSpPr>
        <p:spPr>
          <a:xfrm>
            <a:off x="3117960" y="1906560"/>
            <a:ext cx="8686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LUGGAGE STORAG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74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76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Line 8"/>
          <p:cNvSpPr/>
          <p:nvPr/>
        </p:nvSpPr>
        <p:spPr>
          <a:xfrm flipV="1">
            <a:off x="1746360" y="2967120"/>
            <a:ext cx="0" cy="54864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4"/>
          <p:cNvSpPr/>
          <p:nvPr/>
        </p:nvSpPr>
        <p:spPr>
          <a:xfrm>
            <a:off x="3117960" y="528480"/>
            <a:ext cx="8686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LUGGAGE STORAG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85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6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87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Line 7"/>
          <p:cNvSpPr/>
          <p:nvPr/>
        </p:nvSpPr>
        <p:spPr>
          <a:xfrm>
            <a:off x="1670040" y="7081920"/>
            <a:ext cx="8277120" cy="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584440" y="22813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PARKI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765520" y="6853320"/>
            <a:ext cx="8277120" cy="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105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Group 10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107" name="Text Box 11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2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3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4"/>
          <p:cNvSpPr/>
          <p:nvPr/>
        </p:nvSpPr>
        <p:spPr>
          <a:xfrm>
            <a:off x="3117960" y="5284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MS-AAPG LUGGAGE STORA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596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598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Line 8"/>
          <p:cNvSpPr/>
          <p:nvPr/>
        </p:nvSpPr>
        <p:spPr>
          <a:xfrm flipV="1">
            <a:off x="1289160" y="2967120"/>
            <a:ext cx="0" cy="54864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4"/>
          <p:cNvSpPr/>
          <p:nvPr/>
        </p:nvSpPr>
        <p:spPr>
          <a:xfrm>
            <a:off x="1974960" y="4871880"/>
            <a:ext cx="9601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pstairs to 1</a:t>
            </a:r>
            <a:r>
              <a:rPr b="0" lang="en-US" sz="8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floor – Room 163,  Senate Chamber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527040" y="754200"/>
            <a:ext cx="1828800" cy="18316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7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12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607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8" name="Group 14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609" name="Text Box 15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16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17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Text Box 3"/>
          <p:cNvSpPr/>
          <p:nvPr/>
        </p:nvSpPr>
        <p:spPr>
          <a:xfrm>
            <a:off x="374760" y="528480"/>
            <a:ext cx="11353680" cy="37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RMS–AAPG GUEST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HOSPITALITY SUI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Strater Hotel – Oak 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6"/>
          <p:cNvSpPr/>
          <p:nvPr/>
        </p:nvSpPr>
        <p:spPr>
          <a:xfrm>
            <a:off x="374760" y="4614840"/>
            <a:ext cx="114300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6480" indent="-1176480" algn="ctr">
              <a:spcBef>
                <a:spcPts val="901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ay &amp; Tuesday, June 14 - 15,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6480" indent="-1176480" algn="ctr">
              <a:spcBef>
                <a:spcPts val="901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:30 a.m. to 5:00 p.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6480" indent="-1176480" algn="ctr">
              <a:spcBef>
                <a:spcPts val="901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6480" indent="-1176480" algn="ctr">
              <a:spcBef>
                <a:spcPts val="901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dnesday, June 16,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6480" indent="-1176480" algn="ctr">
              <a:spcBef>
                <a:spcPts val="901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:30 a.m. to 12:00 p.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2" descr="south_route.tif"/>
          <p:cNvPicPr/>
          <p:nvPr/>
        </p:nvPicPr>
        <p:blipFill>
          <a:blip r:embed="rId1"/>
          <a:srcRect l="6818" t="15688" r="6818" b="13724"/>
          <a:stretch/>
        </p:blipFill>
        <p:spPr>
          <a:xfrm>
            <a:off x="971640" y="2052720"/>
            <a:ext cx="10375920" cy="65530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146160" y="299880"/>
            <a:ext cx="119570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MS–AAP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huttle Schedule: South Rou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3" descr="100106_1303_RMS_logo_REV2009"/>
          <p:cNvPicPr/>
          <p:nvPr/>
        </p:nvPicPr>
        <p:blipFill>
          <a:blip r:embed="rId2"/>
          <a:stretch/>
        </p:blipFill>
        <p:spPr>
          <a:xfrm>
            <a:off x="452520" y="441360"/>
            <a:ext cx="12031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13" descr="north_route.tif"/>
          <p:cNvPicPr/>
          <p:nvPr/>
        </p:nvPicPr>
        <p:blipFill>
          <a:blip r:embed="rId1"/>
          <a:srcRect l="8636" t="11171" r="8238" b="7455"/>
          <a:stretch/>
        </p:blipFill>
        <p:spPr>
          <a:xfrm>
            <a:off x="5251320" y="528480"/>
            <a:ext cx="6578640" cy="833436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527040" y="2606760"/>
            <a:ext cx="70801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MS–AAPG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hutt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chedul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orth Rou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" descr="100106_1303_RMS_logo_REV2009"/>
          <p:cNvPicPr/>
          <p:nvPr/>
        </p:nvPicPr>
        <p:blipFill>
          <a:blip r:embed="rId2"/>
          <a:stretch/>
        </p:blipFill>
        <p:spPr>
          <a:xfrm>
            <a:off x="681120" y="679320"/>
            <a:ext cx="18270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584440" y="234144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MS-AAPG MEETI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 flipH="1">
            <a:off x="3193560" y="6929280"/>
            <a:ext cx="7239240" cy="180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116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118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527040" y="45252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609480" y="833400"/>
            <a:ext cx="1172844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RMS-AAPG FIELD TRIP &amp; SHUTTLE BUS STO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ircle Dr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126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128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984240" y="83340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50720" y="1198440"/>
            <a:ext cx="1172844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RMS-AAPG EXHIBITOR LOADING DOC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llege Union Bld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136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Group 8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138" name="Text Box 9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0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1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98440" y="299880"/>
            <a:ext cx="11582280" cy="85345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100106_1303_RMS_logo_REV2009"/>
          <p:cNvPicPr/>
          <p:nvPr/>
        </p:nvPicPr>
        <p:blipFill>
          <a:blip r:embed="rId1"/>
          <a:stretch/>
        </p:blipFill>
        <p:spPr>
          <a:xfrm>
            <a:off x="527040" y="4792680"/>
            <a:ext cx="1828800" cy="1832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04920" y="360360"/>
            <a:ext cx="1172844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REGISTRATION, EXHIBIT HALL, POSTER SESSION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llege Union Bld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74760" y="851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0890360" y="3424320"/>
            <a:ext cx="0" cy="4419360"/>
          </a:xfrm>
          <a:prstGeom prst="line">
            <a:avLst/>
          </a:prstGeom>
          <a:ln w="444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7308720" y="8148600"/>
            <a:ext cx="4572000" cy="676440"/>
            <a:chOff x="7308720" y="8148600"/>
            <a:chExt cx="4572000" cy="676440"/>
          </a:xfrm>
        </p:grpSpPr>
        <p:pic>
          <p:nvPicPr>
            <p:cNvPr id="147" name="Picture 1" descr=""/>
            <p:cNvPicPr/>
            <p:nvPr/>
          </p:nvPicPr>
          <p:blipFill>
            <a:blip r:embed="rId2"/>
            <a:stretch/>
          </p:blipFill>
          <p:spPr>
            <a:xfrm>
              <a:off x="10509120" y="8224920"/>
              <a:ext cx="11527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Group 9"/>
            <p:cNvGrpSpPr/>
            <p:nvPr/>
          </p:nvGrpSpPr>
          <p:grpSpPr>
            <a:xfrm>
              <a:off x="7308720" y="8148600"/>
              <a:ext cx="4572000" cy="676440"/>
              <a:chOff x="7308720" y="8148600"/>
              <a:chExt cx="4572000" cy="6764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7308720" y="8177040"/>
                <a:ext cx="365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ank you to TerraTek for sponsoring our s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7765920" y="8148600"/>
                <a:ext cx="411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2"/>
              <p:cNvSpPr/>
              <p:nvPr/>
            </p:nvSpPr>
            <p:spPr>
              <a:xfrm>
                <a:off x="7785000" y="8148600"/>
                <a:ext cx="0" cy="67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4:24:02Z</dcterms:created>
  <dc:creator>Pamela Leschak</dc:creator>
  <dc:description/>
  <dc:language>en-US</dc:language>
  <cp:lastModifiedBy>Pamela Leschak</cp:lastModifiedBy>
  <dcterms:modified xsi:type="dcterms:W3CDTF">2010-06-17T16:34:54Z</dcterms:modified>
  <cp:revision>53</cp:revision>
  <dc:subject/>
  <dc:title>Slide 1</dc:title>
</cp:coreProperties>
</file>