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BCE-3F39-403E-8BDD-A0939778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AEF-5AED-42AF-BC2B-D218327A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AA9-8C50-4CC4-BB34-41A0E73B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C10-5F84-4B35-838A-DE3C69DA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266-EDE7-4302-BF67-1B52E06B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C0B-AF18-4F43-8293-9CA7A8CF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E1B-31DB-439F-8A52-07CBF919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075-C45F-43F2-99CD-73AF7E0C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3CE-40C9-47BE-A4FA-4676C3F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BF8-E8BC-4EA0-B489-09180DFD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5CC-7575-4733-A2D9-8B5F90F4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2F2-6B76-40E3-AD0C-F56F2EE7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99D0-33FC-4187-8089-9D98B01AF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ourcornersgeologicalsociety.org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58680" y="-579600"/>
            <a:ext cx="11061360" cy="8018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65240" y="-38088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ease join us for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502200" y="152280"/>
            <a:ext cx="100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rican Association of Petroleum Geologists,  Rocky Mountain Sec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6960" y="633240"/>
            <a:ext cx="48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13-16, 2010 in Durango, Col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4640" y="5819760"/>
            <a:ext cx="7108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ted by the Four Corners Geologica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Fort Lewis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9000" y="6770520"/>
            <a:ext cx="69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ore information go to: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urcornersgeologicalsociety.or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12:34Z</dcterms:created>
  <dc:creator>James Fassett</dc:creator>
  <dc:description/>
  <dc:language>en-US</dc:language>
  <cp:lastModifiedBy>Kim Gerhardt</cp:lastModifiedBy>
  <dcterms:modified xsi:type="dcterms:W3CDTF">2009-06-01T02:32:10Z</dcterms:modified>
  <cp:revision>4</cp:revision>
  <dc:subject/>
  <dc:title>Slide 1</dc:title>
</cp:coreProperties>
</file>