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E0F-4239-430B-8413-C774873F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41B-68B8-4554-B2D6-C5A365BF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089-AF03-4363-B785-1C3155A3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A11-1315-4242-9DC9-38A9DE75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A7B-517B-4EB1-B039-451A38C3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5E2-2958-4829-A7CF-49183122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C59-B235-4313-8813-6392D878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4FF-E435-44FF-879E-B4A9554E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95A-7F02-4283-85D3-E193DB2E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DE7-048E-487A-9A8A-93FC7F82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DB8-D94C-4DFF-8E63-390CA504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169-3C24-4686-8250-CEBFD600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E626-632D-410A-99C6-BAD490483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fourcornersgeologicalsociety.org/" TargetMode="External"/><Relationship Id="rId4" Type="http://schemas.openxmlformats.org/officeDocument/2006/relationships/hyperlink" Target="http://www.aapg.org/meetings/rms/" TargetMode="External"/><Relationship Id="rId5" Type="http://schemas.openxmlformats.org/officeDocument/2006/relationships/image" Target="../media/image3.png"/><Relationship Id="rId6" Type="http://schemas.openxmlformats.org/officeDocument/2006/relationships/hyperlink" Target="mailto:jimgeology@qwest.net" TargetMode="External"/><Relationship Id="rId7" Type="http://schemas.openxmlformats.org/officeDocument/2006/relationships/hyperlink" Target="mailto:Kim@mydurango.net" TargetMode="External"/><Relationship Id="rId8" Type="http://schemas.openxmlformats.org/officeDocument/2006/relationships/hyperlink" Target="mailto:Gianniny_g@fortlewis.edu" TargetMode="External"/><Relationship Id="rId9" Type="http://schemas.openxmlformats.org/officeDocument/2006/relationships/hyperlink" Target="mailto:Steven.hayden@state.nm.us" TargetMode="External"/><Relationship Id="rId10" Type="http://schemas.openxmlformats.org/officeDocument/2006/relationships/hyperlink" Target="mailto:Charles.f.head@conocophillips.com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480" y="7472520"/>
            <a:ext cx="1625400" cy="1628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74640" y="872316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our Cor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03720" y="8869320"/>
            <a:ext cx="15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eologic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095" t="28529" r="183" b="29228"/>
          <a:stretch/>
        </p:blipFill>
        <p:spPr>
          <a:xfrm>
            <a:off x="0" y="0"/>
            <a:ext cx="6870600" cy="220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84840" y="2120760"/>
            <a:ext cx="24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 for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0360" y="248436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PG Rocky Mountain Sec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23840" y="2754360"/>
            <a:ext cx="48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ANGO, COLORADO, June 13-16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5240" y="3670200"/>
            <a:ext cx="20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9520" y="6840360"/>
            <a:ext cx="23461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ubmit Abstracts Online a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ourcornersgeologicalsociety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,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aapg.org/meetings/rms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0600" y="72723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st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rcRect l="26539" t="20413" r="20338" b="22236"/>
          <a:stretch/>
        </p:blipFill>
        <p:spPr>
          <a:xfrm>
            <a:off x="5057640" y="7516800"/>
            <a:ext cx="1600200" cy="125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53720" y="3073320"/>
            <a:ext cx="2930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bstract  deadline February 1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-4320" y="3960720"/>
            <a:ext cx="3540960" cy="2826000"/>
            <a:chOff x="-4320" y="3960720"/>
            <a:chExt cx="3540960" cy="2826000"/>
          </a:xfrm>
        </p:grpSpPr>
        <p:sp>
          <p:nvSpPr>
            <p:cNvPr id="54" name=""/>
            <p:cNvSpPr/>
            <p:nvPr/>
          </p:nvSpPr>
          <p:spPr>
            <a:xfrm>
              <a:off x="257040" y="3960720"/>
              <a:ext cx="302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ral, Poster, and Poster/Core Ses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-4320" y="4205160"/>
              <a:ext cx="3540960" cy="25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hale Gas and Fractured Shale Plays of the Rock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ght Gas Sands and Fractured Sandstone Reservoi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w Insights into the Paradox Bas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n Juan Basin – Mature Basin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w Concepts and New Discoveries in the Rocky Mountain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verthrust Bel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ranium Geology in the Rock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Sequestration – What Have We Learned So Far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eothermal Energy – From Hot Springs to Produced Wa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dvances in Completion Technologies &amp; Microseismic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onitoring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eomechanics / Deformation Styles in the Rock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ulti-scale Observations and the Application of Remot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nsing and Lidar to Rocky Mountain Petroleu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xplo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dimentology and Stratigraphy of Rocky Mountain Bas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ructure of Rocky Mountain Bas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udent Pap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656520" y="4151160"/>
            <a:ext cx="3159720" cy="1431000"/>
            <a:chOff x="3656520" y="4151160"/>
            <a:chExt cx="3159720" cy="1431000"/>
          </a:xfrm>
        </p:grpSpPr>
        <p:sp>
          <p:nvSpPr>
            <p:cNvPr id="57" name=""/>
            <p:cNvSpPr/>
            <p:nvPr/>
          </p:nvSpPr>
          <p:spPr>
            <a:xfrm>
              <a:off x="4667400" y="4151160"/>
              <a:ext cx="95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Field Tri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56520" y="4390920"/>
              <a:ext cx="315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ennsylvanian Hermosa Fm., from Shelf to Bas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pper Cretaceous Reservoirs of the San Juan Bas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rom the San Juan Basin to the San Juan Mountains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art I: Paleozoics of the Animas Valley Nort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rom the San Juan Basin to the San Juan Mountains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art II: Cretaceous to Paleogene of the Anima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alley Sout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eolian Reservoir Analog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520160" y="569268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ort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60840" y="5979960"/>
            <a:ext cx="1449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 Rocks 1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ranium Ge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gging while Dril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71640" y="7723080"/>
            <a:ext cx="1354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ral Meeting Chair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im Fasse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Jimgeology@qwest.ne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m Miskell-Gerhard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Kim@mydurango.ne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0160" y="7723080"/>
            <a:ext cx="1524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echnical Sessions Chair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ry Gianni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Gianniny_g@fortlewis.ed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ve Hay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teven.hayden@state.nm.u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7760" y="8420040"/>
            <a:ext cx="1869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eldtrip Chair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ip He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Charles.f.head@conocophillips.co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vid Gonza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nzales_d@fortlewis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7480" y="8420040"/>
            <a:ext cx="120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ort Courses Chai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son Hoote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hooten@rwpc.u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6320" y="7502400"/>
            <a:ext cx="142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0720" y="6567480"/>
            <a:ext cx="3561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esenting authors can submit their research for possible publication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ew Mexico Geological Society's 2010 Fall Field Conference Guideb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hich will focus on the Four Corners Area.  Deadline for manuscri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bmission is March 1, 2010.  Contact Jim Fassett (below) or Kate Zieg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bluedragon@gmail.com) for more inform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86960" y="3359160"/>
            <a:ext cx="34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(go to www.fourcornersgeologicalsociety.org for more informa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3:26:49Z</dcterms:created>
  <dc:creator>Kim Gerhardt</dc:creator>
  <dc:description/>
  <dc:language>en-US</dc:language>
  <cp:lastModifiedBy>Kim Gerhardt</cp:lastModifiedBy>
  <dcterms:modified xsi:type="dcterms:W3CDTF">2009-11-16T17:47:53Z</dcterms:modified>
  <cp:revision>5</cp:revision>
  <dc:subject/>
  <dc:title>Slide 1</dc:title>
</cp:coreProperties>
</file>