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ECE-C477-4757-B39B-06502006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D1C-4332-40AA-A82F-FEC5DC12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B31-24DA-42C3-8EE8-00D17E5D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A94-D545-4C0D-AA22-56AFA2BD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20F-CA2B-4870-889C-E845A850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C94-8AC3-4C5C-A776-9F56F69B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BD9-DDDE-421B-8998-C3D6C149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083-4A44-43E4-A5D9-A1087752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908-B423-474D-AA2A-4C5A1E2A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71C-DB8D-40D5-AB4E-2D622192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F86-CA14-4196-9405-F5E71627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772-6A02-4CE2-85DA-AF20595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BB39-2592-4CFB-8534-157A221D4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160" y="295200"/>
            <a:ext cx="3886200" cy="584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70080" y="6330960"/>
            <a:ext cx="345132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273200" y="263988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 tongu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itland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7316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ing methane s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outh For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Cr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61400" y="31608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Pictures to b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Field Tri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ript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46080"/>
            <a:ext cx="21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_321_Coa coaltongu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1040" y="8869320"/>
            <a:ext cx="145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TCBubblesx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23:04:00Z</dcterms:created>
  <dc:creator>Kim Gerhardt</dc:creator>
  <dc:description/>
  <dc:language>en-US</dc:language>
  <cp:lastModifiedBy>Kim Gerhardt</cp:lastModifiedBy>
  <dcterms:modified xsi:type="dcterms:W3CDTF">2010-02-14T17:38:36Z</dcterms:modified>
  <cp:revision>3</cp:revision>
  <dc:subject/>
  <dc:title>Slide 1</dc:title>
</cp:coreProperties>
</file>