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920-FA8D-466B-B8FB-F0E85380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8E0-B97F-42B8-BF72-4A6C7539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6FA-5630-4517-9E3C-B2EF1A8B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185-DCF9-4AE3-8220-33C6CE4A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354-ED9A-4809-B2A2-82FD37DA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FFC-B895-485E-BE31-00C02352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96C-74E9-4EDC-B1B3-D0AECB2E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D7B-2A19-4B38-9819-A1D8E47D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B0B-B3E1-4070-84C3-D74CC21E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320-5C9D-46B7-BDB7-8D33F0C6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296-93DC-4535-9D24-DD47D6A4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204-F4FD-447D-B93F-5C57200A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F0E5-EEE9-4FC6-8623-BAE93CD57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4600" y="1441440"/>
            <a:ext cx="8804160" cy="292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72080" y="4517280"/>
            <a:ext cx="811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kota Sandstone, White Rock Mesa Member, at Red Wash, NM: fluvial strata with isolated channel above coal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tonstein par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27360" y="239760"/>
            <a:ext cx="26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Picture for Field Trip 2 descrip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8560" y="100476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Wash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23:11:29Z</dcterms:created>
  <dc:creator>Kim Gerhardt</dc:creator>
  <dc:description/>
  <dc:language>en-US</dc:language>
  <cp:lastModifiedBy>Kim Gerhardt</cp:lastModifiedBy>
  <dcterms:modified xsi:type="dcterms:W3CDTF">2010-02-14T17:38:41Z</dcterms:modified>
  <cp:revision>3</cp:revision>
  <dc:subject/>
  <dc:title>Slide 1</dc:title>
</cp:coreProperties>
</file>