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8E6-1669-4CEE-8C68-29BA93B3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398-F8B6-4EDD-904C-B9571A78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572-50C3-4275-BB24-A2823931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53C-9981-4AF7-B786-A4A95131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7E3-2F40-4115-AE1C-2610E48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411-6056-4100-92D7-31C8D9F1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4F4-4CF0-49EE-B266-9FDE91C3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A42-76CB-43E7-894D-A46E49AC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13D-DF69-4DFC-A5FB-70389230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942-2F63-432A-BB31-904B8521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B9D-A90E-4EC4-AB3B-4E04EC2C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F6E-946D-434C-AA73-F033F0F6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C476-349D-459B-8C3B-4C1CF36DA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5943600" cy="44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30280" y="23623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3 California Mtn 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6600" y="6858000"/>
            <a:ext cx="55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 Mountain, in San Juan volcanic field, just north of Silverton, Color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7:20:53Z</dcterms:created>
  <dc:creator>Kim Gerhardt</dc:creator>
  <dc:description/>
  <dc:language>en-US</dc:language>
  <cp:lastModifiedBy>Kim Gerhardt</cp:lastModifiedBy>
  <dcterms:modified xsi:type="dcterms:W3CDTF">2010-02-14T17:30:05Z</dcterms:modified>
  <cp:revision>3</cp:revision>
  <dc:subject/>
  <dc:title>Slide 1</dc:title>
</cp:coreProperties>
</file>