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85C-6CAE-423A-A7DC-963A2426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9CF-CA36-4C9F-9E52-F8DEE4A0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584-8C23-49F7-9F95-3298ACCC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FF3-FC49-4EB1-999F-29E74464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FAC-F204-4263-AAEF-3E411FA8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211-0DA5-4D41-A85A-4E3A906B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3DF-0CE0-4AE6-97AA-DF8CA0BD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1A1-A99D-4DB0-9A3D-CD6D4411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C0E-6C22-4859-8FFC-1AA71B17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D2A-F2CB-42A2-95DB-0EBF15B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399-6D36-4524-AA8C-63D338F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366-FC17-4DCE-BA80-E535503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22B0-6CD7-4FAD-8847-355E8B375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365800" cy="40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5080" y="5191200"/>
            <a:ext cx="6165720" cy="32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609840" y="3049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mCliffs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3920" y="525780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JRivExitRap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0240" y="4419720"/>
            <a:ext cx="470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to north of Hermosa Clifs with Engineer Mountain in d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0600" y="8534520"/>
            <a:ext cx="63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to east of San Juan River emerging from Raplee anticline.  Mexican Hat in fore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7:14:40Z</dcterms:created>
  <dc:creator>Kim Gerhardt</dc:creator>
  <dc:description/>
  <dc:language>en-US</dc:language>
  <cp:lastModifiedBy>Kim Gerhardt</cp:lastModifiedBy>
  <dcterms:modified xsi:type="dcterms:W3CDTF">2010-02-14T17:29:28Z</dcterms:modified>
  <cp:revision>2</cp:revision>
  <dc:subject/>
  <dc:title>Slide 1</dc:title>
</cp:coreProperties>
</file>