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8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063-618B-4D02-B424-65B3D501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0C1-F61C-4F2D-A61E-DF16F66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65D-0A67-4CC0-995C-3A852BCD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07D-5708-48D9-BD44-BA5EE381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6FA-FFB7-4013-B608-46868667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3C8-48B1-480D-951C-30B703B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962-6D85-4C29-ADFC-4E8E19F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3C9-21E1-4294-ABC7-F0B0BF4C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7B1-36B2-4155-88EC-BD010F19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D0B-FCD3-471E-B00E-EBFB226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6B2-3669-487E-8463-0077226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E94-0989-46BE-BE01-7ABE04B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09D2-1AA1-4ED6-81CA-D9B3299AF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image" Target="../media/image24.jpeg"/><Relationship Id="rId23" Type="http://schemas.openxmlformats.org/officeDocument/2006/relationships/image" Target="../media/image25.jpe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image" Target="../media/image28.jpeg"/><Relationship Id="rId27" Type="http://schemas.openxmlformats.org/officeDocument/2006/relationships/image" Target="../media/image29.jpeg"/><Relationship Id="rId28" Type="http://schemas.openxmlformats.org/officeDocument/2006/relationships/image" Target="../media/image30.jpeg"/><Relationship Id="rId29" Type="http://schemas.openxmlformats.org/officeDocument/2006/relationships/image" Target="../media/image31.jpeg"/><Relationship Id="rId30" Type="http://schemas.openxmlformats.org/officeDocument/2006/relationships/image" Target="../media/image32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85680"/>
            <a:ext cx="8705880" cy="6772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9433" t="10672" r="20866" b="9328"/>
          <a:stretch/>
        </p:blipFill>
        <p:spPr>
          <a:xfrm>
            <a:off x="4724280" y="990720"/>
            <a:ext cx="2133720" cy="2031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20000" r="0" b="20000"/>
          <a:stretch/>
        </p:blipFill>
        <p:spPr>
          <a:xfrm>
            <a:off x="228600" y="609480"/>
            <a:ext cx="2247840" cy="1009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34320" y="609480"/>
            <a:ext cx="1828800" cy="107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37440" y="30492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ank you to our spo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880" y="5562720"/>
            <a:ext cx="1428840" cy="78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276720" y="5867280"/>
            <a:ext cx="99036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28600" y="1981080"/>
            <a:ext cx="66348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286000" y="3733920"/>
            <a:ext cx="1905120" cy="422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286000" y="5638680"/>
            <a:ext cx="63972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505320" y="4800600"/>
            <a:ext cx="914400" cy="75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04920" y="4419720"/>
            <a:ext cx="1714320" cy="38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362320" y="4343400"/>
            <a:ext cx="2000160" cy="3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rcRect l="0" t="0" r="33459" b="23677"/>
          <a:stretch/>
        </p:blipFill>
        <p:spPr>
          <a:xfrm>
            <a:off x="1981080" y="3235320"/>
            <a:ext cx="2095560" cy="3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457200" y="2971800"/>
            <a:ext cx="1047600" cy="55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380880" y="3733920"/>
            <a:ext cx="1428840" cy="49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rcRect l="0" t="6944" r="8580" b="26036"/>
          <a:stretch/>
        </p:blipFill>
        <p:spPr>
          <a:xfrm>
            <a:off x="533520" y="4876920"/>
            <a:ext cx="1904760" cy="493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2666880" y="1143000"/>
            <a:ext cx="16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7"/>
          <a:stretch/>
        </p:blipFill>
        <p:spPr>
          <a:xfrm>
            <a:off x="48769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8"/>
          <a:stretch/>
        </p:blipFill>
        <p:spPr>
          <a:xfrm>
            <a:off x="6019920" y="4800600"/>
            <a:ext cx="750600" cy="750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9"/>
          <a:srcRect l="11351" t="11357" r="11757" b="41640"/>
          <a:stretch/>
        </p:blipFill>
        <p:spPr>
          <a:xfrm>
            <a:off x="7010280" y="3429000"/>
            <a:ext cx="1703520" cy="447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0"/>
          <a:stretch/>
        </p:blipFill>
        <p:spPr>
          <a:xfrm>
            <a:off x="8001000" y="4038480"/>
            <a:ext cx="789120" cy="97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1"/>
          <a:stretch/>
        </p:blipFill>
        <p:spPr>
          <a:xfrm>
            <a:off x="4952880" y="6172200"/>
            <a:ext cx="1812960" cy="480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2"/>
          <a:stretch/>
        </p:blipFill>
        <p:spPr>
          <a:xfrm>
            <a:off x="6934320" y="5181480"/>
            <a:ext cx="2046240" cy="37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3"/>
          <a:stretch/>
        </p:blipFill>
        <p:spPr>
          <a:xfrm>
            <a:off x="7696080" y="5791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4"/>
          <a:stretch/>
        </p:blipFill>
        <p:spPr>
          <a:xfrm>
            <a:off x="4572000" y="3429000"/>
            <a:ext cx="763560" cy="871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5"/>
          <a:stretch/>
        </p:blipFill>
        <p:spPr>
          <a:xfrm>
            <a:off x="4572000" y="4419720"/>
            <a:ext cx="1363680" cy="544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6"/>
          <a:srcRect l="0" t="0" r="17384" b="39759"/>
          <a:stretch/>
        </p:blipFill>
        <p:spPr>
          <a:xfrm>
            <a:off x="6629400" y="2816280"/>
            <a:ext cx="2390760" cy="61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7"/>
          <a:stretch/>
        </p:blipFill>
        <p:spPr>
          <a:xfrm>
            <a:off x="6172200" y="5791320"/>
            <a:ext cx="1216080" cy="455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8"/>
          <a:stretch/>
        </p:blipFill>
        <p:spPr>
          <a:xfrm>
            <a:off x="7086600" y="4191120"/>
            <a:ext cx="611280" cy="776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9"/>
          <a:stretch/>
        </p:blipFill>
        <p:spPr>
          <a:xfrm>
            <a:off x="5791320" y="3276720"/>
            <a:ext cx="615960" cy="741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0"/>
          <a:stretch/>
        </p:blipFill>
        <p:spPr>
          <a:xfrm>
            <a:off x="5943600" y="4191120"/>
            <a:ext cx="893880" cy="30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38880" y="24382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John C. Os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01:58Z</dcterms:created>
  <dc:creator>Paul B. Anderson</dc:creator>
  <dc:description/>
  <dc:language>en-US</dc:language>
  <cp:lastModifiedBy>Paul B. Anderson</cp:lastModifiedBy>
  <dcterms:modified xsi:type="dcterms:W3CDTF">2007-10-04T15:55:04Z</dcterms:modified>
  <cp:revision>3</cp:revision>
  <dc:subject/>
  <dc:title>We’re on the web.</dc:title>
</cp:coreProperties>
</file>